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C097-2C76-4C39-A9A7-57B080863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2F39-9471-4B4F-B998-F7F90DF0C6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B501-FCA4-41D8-B1EE-53E7600D02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E6C5-95C3-4C16-BB04-4A9BA699A2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149C-DE30-43AF-9087-476718D49E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59EF-5E87-4832-8904-70CDF1A00F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244E-02CF-4293-94C0-00601AA146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8B0C-F73B-4504-95F4-8B66433E07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CEFE-D7A8-419A-868D-55F0470041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F5A3-7F20-4EFD-A35F-7CFE223BA6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EA1-DB4D-410C-93F7-A045FB8F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24A-B942-43EE-90AA-75711440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B4341D-AF3A-40B8-88F8-751329E7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1B387C-B108-4030-8EFC-A085BC2C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7AD046-5D1B-4F4B-8AAD-188FC6C9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3DA91D-C491-40DF-993F-DD65EC05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B546D1-C38F-4712-93BD-72D6EC1A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CB4467-3086-492C-98FD-C7872E28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F95A8C-6AFC-4683-8B82-EA6468E1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B160B0-06AC-4A1E-A9B0-2B3C91A5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605052-E768-48B3-BCE9-E2ED5C07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757-46C4-4EAE-9DB8-192F5E08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B61-8BD0-4D81-BB48-0432330D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34EB8-22EA-40FE-90B5-81249942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77577-310E-4AEB-895C-9E5BE70C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A89F9-24F8-4836-8DAF-BF175C5A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D11FC-F63E-476E-BB7A-F6CDDD33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ECF17-7BAB-4620-BAC0-76F9FD21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1E46F-2C08-42F0-981D-E5288BD4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AACF0-3690-400B-BA46-642CBC4B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78F-5036-4FD5-B910-220F8C76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80329-4640-49C6-885A-9497607D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3B478-F648-455C-AF15-1ACBADA7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2A83C-8610-4CC5-940D-E4133C27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DE7AD-5E86-49F4-96E0-498CBFD7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806D2-ACA8-44F6-9118-6D28DF15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9D9C6-FEF3-484E-9A0B-4F89C7D7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7D86-8379-4246-ACF6-9D31F705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129A4-20FE-4BAD-951D-C606C7B6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916C1-F3D8-4252-86BC-EF975017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50071-0B63-4515-8929-22B0AF12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BD7-68D6-4D12-920E-BEAA0FA7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DB78-0C49-440A-9E74-768672DF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DD6C1-43B4-409D-AC0E-DB8BC8F0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1A9F9-10BA-4A73-85AF-952AB4CC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57633-A53B-4A35-9951-76A115E7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40E4-5F39-42E9-AB5B-8FE9EF9F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F3EA2-665D-4B89-B757-59D82759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6DEAA-3795-4794-87E1-DE8F1DFC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1CE5B-E1D8-4BEA-8FCC-B0423805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EEFED7-DE68-4D2E-A30B-7B48BA16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2BE7D-69F2-4442-93E4-051720AF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C02-680B-4D91-8CF8-97E85450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DA6DB4-8920-43B1-998F-7D47F7D8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C24C30-4130-4479-A4D0-AA0F5872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752FD4-C304-4835-B27D-E0949EE7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D85B8-8E1A-4420-9F66-056C0555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C9A09-73E3-49C9-AB2F-7ED653EA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55EC7E-2AA4-42D5-84E5-D186C1C3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524FE1-7D7F-40FA-B52A-CAF102D0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965EB-7977-42EC-9250-34CC0DB9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8AB81-B34F-48CA-9D91-C9B5C180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9277F-7675-4BDD-9512-C573DEE5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A67-16A1-4EE3-9AAB-07A11531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E75ED-183A-4FB8-B38A-79104272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1E1A0-836F-4C37-96CD-28B02EBC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86860-5AEF-4DC7-9875-3E4959DF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050BE-B1DB-4928-BC16-328FFFF0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6B5D2-721F-4726-BC3A-6D75952B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896FA-D5B7-4482-AB2C-E5CDB78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7EF8F-FC64-4D58-879A-D8BAB8EE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0535C-3468-42AF-9324-0FF2AD19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568B9-6907-4F40-896D-A72F06EA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7CAA2-3953-4BBB-B667-324D7E06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39D-C039-46C7-A98D-47AB8702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3B5B9-0C78-4A5D-9AE1-DFF40019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5902F-C45F-4ACD-A6B5-D2743130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8CC91-6FC4-4F20-BDB7-E31EBB13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D3010-D26C-4C7C-A962-0F12AC44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E256E-3099-47E7-B0D8-B0046189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E8807-6381-4F3C-8BA5-02391ACE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5C20E-647C-4D28-A38D-51E77646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32A3F-4D5C-4BBC-BE79-861D5576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E007A-733C-4197-943C-1573CFD4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1C30B-C002-408C-9804-1FDCF521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C10-BB40-4D81-A5ED-25F6D3AF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B0F0B-8C7C-430E-9CC3-EADC2D38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FC748-9544-47E4-8343-9A3C3B56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0BC82-D8AA-4C55-9767-B5C7982D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C2376-713D-4746-8228-0665CB20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7AB5B-E21E-46AD-BE45-2BCCC939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6F3C1-1C21-4703-AF5F-D5BB59DC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9B4B1-F876-4AE9-B094-FFF5F09A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E969A-0CD9-4364-9FF0-18CF8B58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21FE1-CF4D-4A8A-9851-FFB09C5A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732A5-DFEA-4CED-994E-4EAE174E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76A-079A-425F-AE48-34ECDB6D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CBEA8-F0E9-4D2D-8EED-17EA9F5F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13FDC-EE7A-4DD8-854E-8A5BAC11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33ECD-0EC9-40D3-AD0D-BD49E11C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BC8C8-8ACD-40DB-B61F-6821EF93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A1F93-C681-43FC-B25A-BE903110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7A3923-83DF-4C6B-BD22-068DCF1A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362971-5F4D-49C2-AF85-89B7AD99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02E515-6EAA-4905-989C-AF93D19A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9EA194-665D-4460-B9AA-86410107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D16BD1-DA20-47CC-8686-45BA90BD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3CD-1F2B-4286-B411-584C2963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192904-E7E7-4E15-9B28-FCF1255A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3235E8-F3D2-4297-B46B-3DFEF848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32F8A4-91C7-48C9-A066-7AA155C7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D37F30-0548-4245-B4BE-07CBD1B9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14A727-CC71-4265-8CAB-9945B978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1ED909-3CB1-41C9-85D8-72D2AC03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277AEB-3F49-448F-AC78-1F52E79B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8F9FDD-AF2E-4917-8E4F-CADFE305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F72B50-A1D8-4566-A111-AC0920F1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186AB5-8F9D-4D53-ACF0-07D550FD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CE1E-600E-415F-A303-432667B1F517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886C-A5FF-47A3-A21C-B43FF8041FEB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491D-6BE3-4722-A41E-44F91227743D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2856-368E-4DB9-9713-2C295D05FB98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5DCB-D3F5-4AFE-85B8-3ADFC0E4798F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9820-EA5A-46A2-B526-073955BEB0C6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9D07-B2D1-4935-BEC9-B1F6CC5B33D6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C4BE-5522-42D4-BEE9-EEE0853B5F03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2966-DCB1-4F07-96D7-B428C34156E7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faRlFsYmkeY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2"/>
          <a:stretch/>
        </p:blipFill>
        <p:spPr>
          <a:xfrm>
            <a:off x="-6480" y="2120760"/>
            <a:ext cx="8083800" cy="1494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339360" y="4684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k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46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responds to STIMULI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ganisms maintain HOMEOSTASI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tenance of stable internal condition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Temperature, levels of water,  nutrient uptake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9 ATB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scribe homeostasis and give two examp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nline book Scavenger hu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OGIN:  STUD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ASSWORD:  BLANK (don’t type anything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morrow: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Discuss the domains and kingdoms of life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0 ATB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are two biological molecules we </a:t>
            </a:r>
            <a:r>
              <a:rPr b="0" i="1" lang="en-US" sz="2800" spc="-1" strike="noStrike">
                <a:solidFill>
                  <a:srgbClr val="ffffff"/>
                </a:solidFill>
                <a:latin typeface="Rockwell"/>
              </a:rPr>
              <a:t>talked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about in class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Change of plans…we’re going to the writing lab to finsish the scavenger hunt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IMPORTANT: Add the following questions to your sheet: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9.  In chapter 1:  Activities and Quizzes --Complete the “Biology and Ecology” Concept Map – show me when your done (mints for the least wrong)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10.  Go to Fieldbio.wikispaces.com.   Under “Biology” and then under “Biology Notes and Assignments” open the PowerPoint for this chapter.  Write 5 review questions for the class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15 minutes – work on Online Book Scav Hu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Rest of class – discuss the remaining characteristics of life and the domains of life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228600" y="42660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nergy Use or METABOLIS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rocesses that take in and transform energy from the environ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ROWTH and DEVELOPM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ife grows and then changes (matures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assing of genes to offspr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xual –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5840" indent="-20088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DNA from two organisms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sexual –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5840" indent="-20088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Organism produces exact copy of itself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4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e Changes over tim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rganisms evolve because of adaptations which made them more successful than other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daptation –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Trait that improves an organisms chance of survival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db5353"/>
                </a:solidFill>
                <a:uFillTx/>
                <a:latin typeface="Rockwell"/>
                <a:hlinkClick r:id="rId2"/>
              </a:rPr>
              <a:t>http://www.youtube.com/watch?v=faRlFsYmke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(Homer Evolution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609480" y="3738600"/>
            <a:ext cx="85345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2"/>
          <a:stretch/>
        </p:blipFill>
        <p:spPr>
          <a:xfrm>
            <a:off x="450720" y="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Bacteri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Archea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Eukarya --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3581280" y="2587680"/>
            <a:ext cx="5562720" cy="427032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3809880" y="1143000"/>
            <a:ext cx="457200" cy="609480"/>
            <a:chOff x="3809880" y="1143000"/>
            <a:chExt cx="457200" cy="609480"/>
          </a:xfrm>
        </p:grpSpPr>
        <p:sp>
          <p:nvSpPr>
            <p:cNvPr id="451" name=""/>
            <p:cNvSpPr/>
            <p:nvPr/>
          </p:nvSpPr>
          <p:spPr>
            <a:xfrm>
              <a:off x="3886200" y="1143000"/>
              <a:ext cx="38088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809880" y="1371600"/>
              <a:ext cx="4572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4251240" y="117936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ucleus, unicell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332960" y="1944720"/>
            <a:ext cx="40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us, mostly multicellual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2"/>
          <a:stretch/>
        </p:blipFill>
        <p:spPr>
          <a:xfrm>
            <a:off x="450720" y="-5335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763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cteria – single celled – few organel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rchea – single celled – few organel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tists* –  relative simple organization (algae, amoeba, euglena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lants*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ungi*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imals*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2743200" y="2389320"/>
            <a:ext cx="6400800" cy="4468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533520" y="4191120"/>
            <a:ext cx="176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Eukaryotic (usually multicellul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4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into your group from Frida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out your online book scavenger hunt and get the laptop you signed ou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ot much…just the study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life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 how does it affect u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ffects our health, foods, medicine, the environment, how we interact, etc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5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the two types of reproduction?  How do they differ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Title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iosphere – planet that sustains lif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cosystem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mmunities of living organisms and their non-living environ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iotic = living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biotic = non-liv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volution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hanging of a population over tim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atural Selection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raits that are beneficial are more likely to be passed to offspring - “survival of the fittest”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aptations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raits that improve organisms ability to survive and reproduc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tness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 organisms contribution to genes to the next gener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28600" y="4900680"/>
            <a:ext cx="3352680" cy="19573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5334120" y="3895560"/>
            <a:ext cx="38098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28600" y="122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rey mice…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…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ve better camouflage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eaning they get eaten less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eaning they pass on their grey genes to the next generation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hich means a higher fitnes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2890800"/>
            <a:ext cx="703908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25210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4647960" cy="24084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4952880" y="4379760"/>
            <a:ext cx="419112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Title 1" descr=""/>
          <p:cNvPicPr/>
          <p:nvPr/>
        </p:nvPicPr>
        <p:blipFill>
          <a:blip r:embed="rId2"/>
          <a:stretch/>
        </p:blipFill>
        <p:spPr>
          <a:xfrm>
            <a:off x="450720" y="-66600"/>
            <a:ext cx="8620200" cy="14745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reate your own hypothesis explaining how giraffes evolved long necks, assuming their ancestors were shorter.  What evolutionary pressure caused the longer necks? (Why did it happen?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iraffe fight!!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http://www.youtube.com/watch?v=C7HCIGFdBt8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50198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39909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6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does natural selection lead to evolution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2"/>
          <a:stretch/>
        </p:blipFill>
        <p:spPr>
          <a:xfrm>
            <a:off x="-6480" y="-103320"/>
            <a:ext cx="8107560" cy="18655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Dendr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otan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Zo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c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ntom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ryob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rnith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atom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hys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Ichthy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erpet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pidem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8 ATB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you studying if you stud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cology –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otany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Zoology -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7eacb"/>
                </a:solidFill>
                <a:latin typeface="Rockwell"/>
              </a:rPr>
              <a:t>What are  the characteristics of life?</a:t>
            </a:r>
            <a:endParaRPr b="0" lang="en-US" sz="42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in groups with someone around you and try to brain storm as many characteristics of life as you ca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7 Characteristics of  Lif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is ORGANIZ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responds to STIMULI (responsivenes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maintain HOMEOSTASI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have a METABOLIS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GROW and DEVELOP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REPRODUC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EVOLV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02724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2"/>
          <a:stretch/>
        </p:blipFill>
        <p:spPr>
          <a:xfrm>
            <a:off x="380880" y="0"/>
            <a:ext cx="7828200" cy="1006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15228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25560" indent="-5144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e basic unit of life is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Rockwell"/>
              </a:rPr>
              <a:t>cel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304920" y="1447920"/>
            <a:ext cx="2819160" cy="25081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4952880" y="4710240"/>
            <a:ext cx="3581640" cy="2147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6"/>
          <a:stretch/>
        </p:blipFill>
        <p:spPr>
          <a:xfrm>
            <a:off x="380880" y="4116240"/>
            <a:ext cx="3886200" cy="27417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7"/>
          <a:stretch/>
        </p:blipFill>
        <p:spPr>
          <a:xfrm>
            <a:off x="5334120" y="1371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7eacb"/>
                </a:solidFill>
                <a:latin typeface="Rockwell"/>
              </a:rPr>
              <a:t>Characteristics of Life</a:t>
            </a:r>
            <a:endParaRPr b="0" lang="en-US" sz="42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Life is ORGANIZ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ganization of living thing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ganis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gan Syste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Orga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Tissu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Cell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Organell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Biological Molecule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Atom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some biological molecule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2514600"/>
            <a:ext cx="320040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2971800"/>
            <a:ext cx="24386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324480" y="2514600"/>
            <a:ext cx="19814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2971800"/>
            <a:ext cx="17524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48520" y="2971800"/>
            <a:ext cx="213336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3429000"/>
            <a:ext cx="236196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24080" y="3429000"/>
            <a:ext cx="15242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14600" y="2971800"/>
            <a:ext cx="1523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0:44:28Z</dcterms:created>
  <dc:creator>David</dc:creator>
  <dc:description/>
  <dc:language>en-US</dc:language>
  <cp:lastModifiedBy>SASD</cp:lastModifiedBy>
  <dcterms:modified xsi:type="dcterms:W3CDTF">2010-09-10T14:18:14Z</dcterms:modified>
  <cp:revision>63</cp:revision>
  <dc:subject/>
  <dc:title>The World of Biology</dc:title>
</cp:coreProperties>
</file>